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4813125-EA38-4056-838E-B68B3EC7CD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4600E9-6774-4D3B-9ECF-D3AAE9D6BDB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46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" name="Group 47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6" name="Picture 48" descr="penedo1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49" descr="pa%E7u1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50" descr="pi02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51" descr="passaros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52" descr="pi04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Picture 53" descr="rio16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Picture 54" descr="rio1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7" descr=""/>
          <p:cNvPicPr/>
          <p:nvPr/>
        </p:nvPicPr>
        <p:blipFill>
          <a:blip r:embed="rId1"/>
          <a:stretch/>
        </p:blipFill>
        <p:spPr>
          <a:xfrm>
            <a:off x="628560" y="360360"/>
            <a:ext cx="8399520" cy="541440"/>
          </a:xfrm>
          <a:prstGeom prst="rect">
            <a:avLst/>
          </a:prstGeom>
          <a:ln w="0">
            <a:noFill/>
          </a:ln>
        </p:spPr>
      </p:pic>
      <p:sp>
        <p:nvSpPr>
          <p:cNvPr id="57" name="Retângulo 8"/>
          <p:cNvSpPr/>
          <p:nvPr/>
        </p:nvSpPr>
        <p:spPr>
          <a:xfrm>
            <a:off x="3381480" y="1285920"/>
            <a:ext cx="595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Dispõe sobre a parcela referida no inciso II do § 1o do art. 17 da Lei no 9.648, de 27 de maio de 1998, paga por titular de concessão ou autorização para exploração de potencial hidráulico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2800080"/>
            <a:ext cx="99061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O PRESIDENTE DA REPÚBLICA, ..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DECRETA: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Art. 1o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  A parcela referida no inciso II do § 1o do art. 17 da Lei no 9.648, de 27 de maio de 1998,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constitui cobrança pelo uso de recursos hídricos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, prevista no inciso IV do art. 5o da Lei no 9.433, de 8 de janeiro de 1997, e será destinada ao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MMA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 para as </a:t>
            </a: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despesas que constituem obrigações legais referentes à Política Nacional de Recursos Hídricos e ao Sistema Nacional de Gerenciamento de Recursos Hídricos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0" y="1581120"/>
            <a:ext cx="9906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Parágrafo único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.  Compete à Agência Nacional de Águas - ANA, criada pela Lei no 9.984, de 17 de julho de 2000, implementar, em sua esfera de atribuições, a Política Nacional de Recursos Hídricos, bem como organizar, implantar e gerir o Sistema Nacional de Gerenciamento de Recursos Hídricos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ff"/>
                </a:solidFill>
                <a:latin typeface="Times New Roman"/>
              </a:rPr>
              <a:t>Art. 2o</a:t>
            </a:r>
            <a:r>
              <a:rPr b="0" lang="pt-BR" sz="2200" spc="-1" strike="noStrike">
                <a:solidFill>
                  <a:srgbClr val="0000ff"/>
                </a:solidFill>
                <a:latin typeface="Times New Roman"/>
              </a:rPr>
              <a:t>  Este Decreto entra em vigor na data de sua publicação.</a:t>
            </a:r>
            <a:endParaRPr b="0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Giordono Bruno</cp:lastModifiedBy>
  <cp:lastPrinted>2001-06-06T00:02:34Z</cp:lastPrinted>
  <dcterms:modified xsi:type="dcterms:W3CDTF">2011-04-28T12:16:16Z</dcterms:modified>
  <cp:revision>1335</cp:revision>
  <dc:subject/>
  <dc:title>Apresentação do PowerPoint</dc:title>
</cp:coreProperties>
</file>